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A41-076B-47B3-A4E5-EFF1FB11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245-172B-4948-B909-6F477367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7C9-B13F-48EC-924C-8BDB2428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8C8-5ED1-46F1-BEF4-C42CAEBF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95BE-6323-409F-987E-70427ADE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EDB3-064B-45C7-B751-14C1E755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03BE-69EC-4C81-BA52-12CBEB7F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0EA4-5BC9-4146-B981-4F9818DE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A44E-5536-4192-9267-AD5395F9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9F71-8D18-47AF-A3E5-6FBFBA45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E12B-02FD-4A71-9DEA-B8066D4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17B-5870-4044-B05A-577238EB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C861-A968-4B3F-B0D3-B09B8C1B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37EB-AECB-437C-87FE-1CC12FCB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1E9C-C944-4967-9FB7-B38C9219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4BEF-230E-405E-A232-3577C796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E912-A51A-4BAB-8165-70F59852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696-0426-4D2E-BE63-841A797B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F66-F5D6-4085-8E74-DE1B6539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056-9804-4854-936A-706F34C7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983-A231-4D58-A0C1-37B3128A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D3B-A351-41F1-AD3B-91AF7E37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781-81EF-4A49-A6C5-AC75F980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71B-C6B9-4E7B-8B10-6B29EE2C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DE70-1B43-48B7-9BBC-0D7F5B5E42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0A6C-2A64-482A-8F7B-2A3840E876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Me llamo _______ Clase 8 IM</a:t>
            </a:r>
            <a:br>
              <a:rPr sz="4000"/>
            </a:b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La fecha es el 11 de octubre del 201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Propósito # 6: 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¿Te gusta viaja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Write a sentence using the following phras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n carro (en coch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n tax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n el bus esco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Ir a p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67652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22840" y="1784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o p. 80-8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ia y respon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Historieta 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.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le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Ejercicio 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. 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ia y comple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Ejercicio 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. 8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NG YOUR PROGRESS REPORT &amp; EXAM # 1 SIGN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BOO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leta p. 35-3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4:18:37Z</dcterms:created>
  <dc:creator>Helen Zumaeta</dc:creator>
  <dc:description/>
  <dc:language>en-US</dc:language>
  <cp:lastModifiedBy>Helen Zumaeta</cp:lastModifiedBy>
  <dcterms:modified xsi:type="dcterms:W3CDTF">2011-10-11T20:20:53Z</dcterms:modified>
  <cp:revision>3</cp:revision>
  <dc:subject/>
  <dc:title>Me llamo _______ Clase 8 IM La fecha es el 11 de octubre del 2011</dc:title>
</cp:coreProperties>
</file>